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948372"/>
        <c:axId val="92409761"/>
      </c:barChart>
      <c:catAx>
        <c:axId val="489483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409761"/>
        <c:crosses val="autoZero"/>
        <c:auto val="1"/>
        <c:lblAlgn val="ctr"/>
        <c:lblOffset val="100"/>
        <c:noMultiLvlLbl val="0"/>
      </c:catAx>
      <c:valAx>
        <c:axId val="924097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9483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48A6-F53E-4EC0-9C75-4E26F3036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0471-9158-4D2E-8985-F42954094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25E0-2569-45FB-9715-A87BA7F4A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AFC1-5225-4171-8C7E-D49B26C1C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2009-DB40-4954-AAC0-D635B8959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626A-4A1E-4AE0-9C08-F3F09033D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3E98-A2A1-47F7-9F03-53C10B209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E255-11A9-4216-8D58-951988FAA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564C-3E43-428A-BA36-EC21072E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74D0-0DB7-4DD6-AF99-C601A576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4D7B-8216-4600-86B2-04D3CE75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F287-578F-46E2-B9A9-8ACBCFDB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911AFF-2902-4951-A783-2AD3F8C29B5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