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88446"/>
        <c:axId val="84419652"/>
      </c:barChart>
      <c:catAx>
        <c:axId val="23988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19652"/>
        <c:crosses val="autoZero"/>
        <c:auto val="1"/>
        <c:lblAlgn val="ctr"/>
        <c:lblOffset val="100"/>
        <c:noMultiLvlLbl val="0"/>
      </c:catAx>
      <c:valAx>
        <c:axId val="844196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88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B9E2-F4A0-4325-A19C-A0127133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8EF-1196-43C7-A16D-6CBC796E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EC2-1004-43D6-81DB-0A2863EA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5B5-3E21-48D6-9BB0-A3826932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BDB-94A6-4E33-B419-F54E358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7CE-D212-4291-ADFF-DD867FA0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EDC-ADE8-47E8-B48B-606C4F98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BBC-6D70-4A3B-973E-D8E02BC8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51B-75D2-42AE-AF64-C76D2A2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827-3D02-4386-8986-673946B9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A8A-ABF1-4923-A4A1-4C73CCAE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BD5-B4CA-40D0-8BA2-2B88702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1B51E-DEAD-4E6E-B469-54BA158F56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