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399433"/>
        <c:axId val="92025920"/>
      </c:barChart>
      <c:catAx>
        <c:axId val="663994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25920"/>
        <c:crosses val="autoZero"/>
        <c:auto val="1"/>
        <c:lblAlgn val="ctr"/>
        <c:lblOffset val="100"/>
        <c:noMultiLvlLbl val="0"/>
      </c:catAx>
      <c:valAx>
        <c:axId val="920259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994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7BF4-EA33-4510-98FE-17B7B3B6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F2B0-0D0F-4BB3-9CC2-06993D63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8123-E38C-493C-9886-00188508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D2F7-79B6-4C45-8C6B-58E252ED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5089-FEBF-4129-A7B8-FBA11EEA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8881-2997-4F49-A0CC-47C8422F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B596-D305-4DAC-AFF8-C5B2D1CD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7643-C6CE-46DA-BAD0-5E9A306E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0385-0C97-4E8B-AD44-E0D739E5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2A64-9B3A-464D-A6F2-9DEC7066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1758-5B7C-4FA6-9570-9DA6E1E5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3A1A-1E40-4399-A0B0-219D84B1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ABAB6-C4F1-4753-97AF-058F623583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